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88B-55E0-4AEA-AA63-79480B93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0F8-57CE-42D0-B9C6-DD12C7E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766-1790-4A31-B1FE-BC08F944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BAA-AD99-4EFF-897F-B6DBC344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97E-0B39-48DE-8DB8-925E61D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078-C7BF-4CAC-8DCD-E2743D0E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95A2-42AE-48FD-BF9B-D6ABCC0A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597-48F1-4285-B7BD-1B0E705C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628-7431-4035-8D95-9109F7A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880-CB63-4456-99BD-4D92ACEE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3E3-48C9-4BA4-9A92-C7DDCCF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8DA-6510-47CA-87D0-4FC55B9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0046-16E2-4D73-A747-6113D75E1A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hool.discoveryeducation.com/clipart/images/pencil_color.gif&amp;imgrefurl=http://school.discoveryeducation.com/clipart/clip/pencil_color.html&amp;usg=__kUnXj5-nEZgU1msbX3CgQY1UNMc=&amp;h=487&amp;w=550&amp;sz=17&amp;hl=en&amp;start=6&amp;sig2=4y3Rx55bzmhpAk2cgScAxw&amp;tbnid=fu28OiD64xgANM:&amp;tbnh=118&amp;tbnw=133&amp;prev=/images%3Fq%3Dpencil%26gbv%3D2%26hl%3Den%26sa%3DG&amp;ei=lVitSsSWPNTZlAedqtHQB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coming Better Writ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619440"/>
            <a:ext cx="2362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2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You Sort Things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3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to Persuade Oth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4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to Fight Oppre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out of 10 students who start h.s. will not finish 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of every 2 African American and Latino students will not graduate 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America, more and more students are dropping out and not graduating at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5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Makes YOU a Better Rea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writers tend to be better r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writers tend to read more than poorer wri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tter readers tend to produce more grammatically mature writing than poorer r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6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Makes YOU Sm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riting sharpens your brain by providing mental st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ct of writing itself may create new thin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7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Helps YOU Get Into and Through Colle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4 things many colleges look for in applica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)  GPA (grade point aver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)  Involvement on the h.s. cam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)  Involvement in you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4)  Writing 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Comic Sans MS"/>
              </a:rPr>
              <a:t>Writing Reason #8: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Prepares YOU for the World of 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you write can either be “a ticket into work or a ticket out.”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Comic Sans MS"/>
              </a:rPr>
              <a:t>Top 7 Writing Problems in Schools!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ctr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Students are NOT doing enough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78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why do YOU think that is a problem?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)  Writing is often assigned rather than ta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)  Below-grade-level writers are asked to write LESS than others, instead of MORE than oth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)  Grammar instruction is ineffective or ignor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5)  Students are NOT given enough timed writing instruction 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eachers are doing too much of the work. Students are not doing enough wor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(work is not a bad 4-letter wor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7)  Teachers need to do a better job of assessing (grading / providing feedback) student wri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WHY should YOU become a better writer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Comic Sans MS"/>
              </a:rPr>
              <a:t>Writing Reason #1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riting is Hard, but “HARD” is Rewarding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20:43:42Z</dcterms:created>
  <dc:creator>BPS</dc:creator>
  <dc:description/>
  <dc:language>en-US</dc:language>
  <cp:lastModifiedBy>BPS</cp:lastModifiedBy>
  <dcterms:modified xsi:type="dcterms:W3CDTF">2009-09-13T21:17:40Z</dcterms:modified>
  <cp:revision>4</cp:revision>
  <dc:subject/>
  <dc:title>Becoming Better Writers</dc:title>
</cp:coreProperties>
</file>